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114577"/>
        <c:axId val="73279877"/>
      </c:barChart>
      <c:catAx>
        <c:axId val="631145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79877"/>
        <c:crosses val="autoZero"/>
        <c:auto val="1"/>
        <c:lblAlgn val="ctr"/>
        <c:lblOffset val="100"/>
        <c:noMultiLvlLbl val="0"/>
      </c:catAx>
      <c:valAx>
        <c:axId val="732798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145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2956-F091-4AE7-9096-19D9B60B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A97C-4925-43DA-BCED-9D3C12CF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88C5-75E1-4673-B0CD-07FB91B6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BE7F-A835-44BD-A57A-7CFF2DC5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7115-D55E-48B0-8AE2-8CFB31F7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EE52-BD51-486E-A71B-7E847279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38E2-5EEE-4F89-B3D8-2364A77C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9688-D88D-4B4E-8693-CD358804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350F-A55B-409A-80D7-15CDCF00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F580-F015-42F1-8CCB-74D6A22D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7A2C-E58D-4DEC-ACB7-010CFCEF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A908-30C8-457E-82D1-53E7CC13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B7B46-A0BD-4E6B-87B6-B4F5A641A9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