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30765"/>
        <c:axId val="79148394"/>
      </c:barChart>
      <c:catAx>
        <c:axId val="41630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8394"/>
        <c:crosses val="autoZero"/>
        <c:auto val="1"/>
        <c:lblAlgn val="ctr"/>
        <c:lblOffset val="100"/>
        <c:noMultiLvlLbl val="0"/>
      </c:catAx>
      <c:valAx>
        <c:axId val="79148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30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43A-6CC1-4687-8531-D4B1EAC0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975-B8AD-4E99-99FD-C8C450B3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2C3-C9FF-4F20-87AD-92EA4DC7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6AC-752E-479A-93E7-078A1E96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BE9-7582-45A6-B462-79972E0B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031-1029-49E4-9A85-6CE4DC63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9B0-FD56-4AF9-8DC2-8D2F9FE7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47C-6E5A-42C5-8B0E-47A26630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DBD-4850-485E-AA46-6D091678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2B1-5E01-421C-81D6-33E37366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C06-78B1-4302-A8F0-D0279F3A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FF7-670D-4336-AAA3-DE500E2E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532C0-4F6A-48BD-83B7-B5D8129FFE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