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91774"/>
        <c:axId val="89770955"/>
      </c:barChart>
      <c:catAx>
        <c:axId val="16991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70955"/>
        <c:crosses val="autoZero"/>
        <c:auto val="1"/>
        <c:lblAlgn val="ctr"/>
        <c:lblOffset val="100"/>
        <c:noMultiLvlLbl val="0"/>
      </c:catAx>
      <c:valAx>
        <c:axId val="89770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91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AF2-6EBE-4BF2-B66F-C6209330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BE4-7913-4FC9-A693-2A0F669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AAF-1B97-4A66-9294-9CD7F3E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CB8-6574-4FAA-A97D-D3A6C957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B8F-9575-4105-B094-375B24F9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310-3F53-4DA3-9FBD-2C447B7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93F-9DA8-4AE7-97A9-B61AE40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FA5-FE40-4065-8CE7-1AE8054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DF0-9EA0-4699-BB27-E1A0B11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4DE-4B55-4EFC-AADF-79CA89C7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B12-F642-4C91-83B2-C60F7E4B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9F4-3F33-4D81-A868-D4C4CFDE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BF877-EE21-4116-B75C-12EB7A6FA2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