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76954"/>
        <c:axId val="40535400"/>
      </c:barChart>
      <c:catAx>
        <c:axId val="64876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35400"/>
        <c:crosses val="autoZero"/>
        <c:auto val="1"/>
        <c:lblAlgn val="ctr"/>
        <c:lblOffset val="100"/>
        <c:noMultiLvlLbl val="0"/>
      </c:catAx>
      <c:valAx>
        <c:axId val="40535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76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888-4C30-498B-8C41-62ADA089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210-E811-4DA7-B1B2-B2952D39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EEB-ADAF-4244-9F26-6218BDE7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CF8-D06E-49A8-9692-761D0BC6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DB4-95D3-429F-8BC4-1EDFC2B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2CE-B304-4921-8EB9-FA981AD6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82F-26B9-447D-B9EA-0938D1B0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E9B-649A-45DC-9D47-546FED3C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CDD-89A3-4B0B-9CB5-8150306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694-801E-4391-9F8D-73D50FE4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B63-B87E-4A01-8FE7-89286C76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EA4-0286-494C-AD67-333C37F2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1870D-D1EB-483B-9ADD-9B40A5DF5B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