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89031"/>
        <c:axId val="53190"/>
      </c:barChart>
      <c:catAx>
        <c:axId val="599890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90"/>
        <c:crosses val="autoZero"/>
        <c:auto val="1"/>
        <c:lblAlgn val="ctr"/>
        <c:lblOffset val="100"/>
        <c:noMultiLvlLbl val="0"/>
      </c:catAx>
      <c:valAx>
        <c:axId val="53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90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0F6-CEBF-4837-AF83-87EB69182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78D-C014-489B-91B6-A991689D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A63-0620-4C57-B3FC-E4F3D1FD6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36B-3FD5-4AC7-91BC-D8EC3366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D32-BAF6-428E-977D-226ACFF1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07F-F13F-4923-9E7F-7B6055CE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35A5-09CA-4F15-A612-D367CF63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45B-8BCB-443C-B021-CC652D4A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E22-F73C-4E48-8D0D-68C9FE2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3B6-D297-42CE-886A-86AA8515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194-C4C3-4CEA-920F-0C6F2635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99A-B907-4328-9C07-B34211BE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3D388-2451-4644-9C69-481C8BA6AA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