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99585"/>
        <c:axId val="86270219"/>
      </c:barChart>
      <c:catAx>
        <c:axId val="80699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0219"/>
        <c:crosses val="autoZero"/>
        <c:auto val="1"/>
        <c:lblAlgn val="ctr"/>
        <c:lblOffset val="100"/>
        <c:noMultiLvlLbl val="0"/>
      </c:catAx>
      <c:valAx>
        <c:axId val="86270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9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2A1-BAF9-4665-90DC-67702F4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395-3702-4546-B73E-1E761E4B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8D8-E745-432F-9FDC-5B2D2B09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9FA-FA86-4C7F-AD58-0A7B1D9C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A1E-0788-4A56-BAEB-2849243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003-9FDE-4F2E-93C1-5D096B34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10D-2C42-43F1-8B54-2FC9229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B99-2F76-43E6-A5F4-FF8A6F3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05F-E78E-4895-B874-F7CD86D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25F-A96B-4935-8400-F66EF57C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38C-5B73-49BA-B4CC-344DAB6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AC7-3E79-4721-8F3D-225D62C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C75F-42DA-4E23-9662-7807F2314A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